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CCA7-B0B7-4B79-BBB6-F6671D403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76644-795A-4725-B889-7450F712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4A61D-ABF9-490D-B4E1-7FA042F87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A3736-EFF1-404A-8913-BF26AA464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3DB7-5245-4D02-8D67-CA0516919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08691-5AAF-45B7-8F58-52980823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DACF-7F01-4B02-94C0-440432DA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30A9-2769-4283-B1D9-D1C1A18D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94769-79CA-446C-9354-0AADF346F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AB92-FABC-48F4-8ED6-613F0D52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B76C-E127-4B8E-A75D-DD180105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9314-495C-4F6E-9161-732058006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952E-3FD3-4064-8425-1525386622A0}"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1/1e/Kyoto_Protocol_participation_map_2005.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9/90/CO2-Temp.pn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Global Warming</a:t>
            </a:r>
            <a:endParaRPr b="0" lang="en-US" sz="4400" spc="-1" strike="noStrike">
              <a:solidFill>
                <a:srgbClr val="000000"/>
              </a:solidFill>
              <a:latin typeface="Arial"/>
            </a:endParaRPr>
          </a:p>
        </p:txBody>
      </p:sp>
      <p:pic>
        <p:nvPicPr>
          <p:cNvPr id="42" name="Picture 5" descr="global_warming_panic"/>
          <p:cNvPicPr/>
          <p:nvPr/>
        </p:nvPicPr>
        <p:blipFill>
          <a:blip r:embed="rId1"/>
          <a:stretch/>
        </p:blipFill>
        <p:spPr>
          <a:xfrm>
            <a:off x="2394000" y="1600200"/>
            <a:ext cx="4354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gher Temperatur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lting Snow, Ice and Glaci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ause of higher temperatures on earth, the ice on the North Pole and Greenland, snow, and glaciers are melt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sea levels are ris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ight lead to flooding of land where human beings and animals liv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xtinction of animal species like the polar be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snow on mountains are important sources of drinking water to groups of people around the world. If it melts away, people and animals might have to leave the areas where they liv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7" descr="Polar Bear"/>
          <p:cNvPicPr/>
          <p:nvPr/>
        </p:nvPicPr>
        <p:blipFill>
          <a:blip r:embed="rId1"/>
          <a:stretch/>
        </p:blipFill>
        <p:spPr>
          <a:xfrm>
            <a:off x="5094360" y="1600200"/>
            <a:ext cx="314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recipitation (nedbø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igher temperatures lead to an increase in precipit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ter in the oceans evaporates (fordamper) and comes down as heavy precipitation elsewh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igher temperatures also lead to soil evaporation – because of the heat the moisture or water in the soil evapora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vy downpour of rainwater has lead to flooding in certain parts of the wor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the past years India, the USA, countries in Asia and other parts of the world have experienced severe (alvorlige) flood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6" descr="rainfall"/>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Droughts (tørk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gher temperatures also lead to soil evapor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water is sucked out of the soil, then it is relocated to other areas, and the soil is left dried up</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a result, crops fail and people and animals starv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e recent years, Africa has experienced several severe droughts</a:t>
            </a:r>
            <a:endParaRPr b="0" lang="en-US" sz="1800" spc="-1" strike="noStrike">
              <a:solidFill>
                <a:srgbClr val="000000"/>
              </a:solidFill>
              <a:latin typeface="Arial"/>
            </a:endParaRPr>
          </a:p>
        </p:txBody>
      </p:sp>
      <p:pic>
        <p:nvPicPr>
          <p:cNvPr id="69" name="Picture 6" descr="g_drought"/>
          <p:cNvPicPr/>
          <p:nvPr/>
        </p:nvPicPr>
        <p:blipFill>
          <a:blip r:embed="rId1"/>
          <a:stretch/>
        </p:blipFill>
        <p:spPr>
          <a:xfrm>
            <a:off x="5232240" y="1785960"/>
            <a:ext cx="2870280" cy="415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my Weather – Typhoons, Tornadoes, Hurrican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As a result of higher temperatures, the oceans get warmer and this causes stronger storm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There has been an increase in the number of violent hurricanes in the past 4-5 years (e.g. Katrina in the US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Many people have lost their lives and homes in the past years because of violent hurricanes, tornados, and typho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TORNADO"/>
          <p:cNvPicPr/>
          <p:nvPr/>
        </p:nvPicPr>
        <p:blipFill>
          <a:blip r:embed="rId1"/>
          <a:stretch/>
        </p:blipFill>
        <p:spPr>
          <a:xfrm>
            <a:off x="5164200" y="1600200"/>
            <a:ext cx="300492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Kyoto Treaty (traktat, avtal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Kyoto Treaty was first negotiated in Japan, Kyoto in 1997</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goal of the Kyoto Treaty is to reduce global warming or the emission of CO2 and other greenhouse gases that cause global warming</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All the countries that have signed the Treaty have agreed to reduce their emissions of CO2 </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agreement was dealt a blow in March 2001 when President George W Bush announced that the United States would </a:t>
            </a:r>
            <a:r>
              <a:rPr b="1" lang="nb-NO" sz="1400" spc="-1" strike="noStrike" u="sng">
                <a:solidFill>
                  <a:srgbClr val="000000"/>
                </a:solidFill>
                <a:uFillTx/>
                <a:latin typeface="Times New Roman"/>
              </a:rPr>
              <a:t>never</a:t>
            </a:r>
            <a:r>
              <a:rPr b="0" lang="nb-NO" sz="1400" spc="-1" strike="noStrike" u="sng">
                <a:solidFill>
                  <a:srgbClr val="000000"/>
                </a:solidFill>
                <a:uFillTx/>
                <a:latin typeface="Times New Roman"/>
              </a:rPr>
              <a:t> </a:t>
            </a:r>
            <a:r>
              <a:rPr b="0" lang="nb-NO" sz="1400" spc="-1" strike="noStrike">
                <a:solidFill>
                  <a:srgbClr val="000000"/>
                </a:solidFill>
                <a:latin typeface="Times New Roman"/>
              </a:rPr>
              <a:t>sign it. </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he Treaty has a system where a country might buy CO2 quotas from other countries</a:t>
            </a:r>
            <a:endParaRPr b="0" lang="en-US" sz="14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178 countries have signed the Treaty – including Norway</a:t>
            </a:r>
            <a:endParaRPr b="0" lang="en-US" sz="1400" spc="-1" strike="noStrike">
              <a:solidFill>
                <a:srgbClr val="000000"/>
              </a:solidFill>
              <a:latin typeface="Arial"/>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ap: Countries in green have signed the Treaty, countries in red will not sign it.</a:t>
            </a:r>
            <a:endParaRPr b="0" lang="en-US" sz="1200" spc="-1" strike="noStrike">
              <a:solidFill>
                <a:srgbClr val="000000"/>
              </a:solidFill>
              <a:latin typeface="Arial"/>
            </a:endParaRPr>
          </a:p>
        </p:txBody>
      </p:sp>
      <p:sp>
        <p:nvSpPr>
          <p:cNvPr id="7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7" descr="Image:Kyoto Protocol participation map 2005.png">
            <a:hlinkClick r:id="rId1"/>
          </p:cNvPr>
          <p:cNvPicPr/>
          <p:nvPr/>
        </p:nvPicPr>
        <p:blipFill>
          <a:blip r:embed="rId2"/>
          <a:stretch/>
        </p:blipFill>
        <p:spPr>
          <a:xfrm>
            <a:off x="4724280" y="3429000"/>
            <a:ext cx="3814920" cy="17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y Nina Sandström Angelsen</a:t>
            </a:r>
            <a:endParaRPr b="0" lang="en-US" sz="2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elbu videregående sk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aims of the studies are to enable pupils t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Vocabulary</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lobal warming – global oppvarm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limate change - klimaendring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tmosphere – atmosfæren (a thin layer of atmosphere of gases surrounding the earth)</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diation – strål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frared radiation – infrarød strål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reenhouse gases – klimagasser </a:t>
            </a:r>
            <a:endParaRPr b="0" lang="en-US" sz="9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2 (carbon dioxide)</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ethane – metangass</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Nitrous oxide - lystgass</a:t>
            </a:r>
            <a:endParaRPr b="0" lang="en-US" sz="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 emit (gases) – å slippe u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missions of greenhouse gases – utslipp av klimagasser, klimagassutslip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vaporation – fordamp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oil evaporation – fordamping av fuktighet fra jord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ecipitation – nedbør (rain, snow, hail)</a:t>
            </a:r>
            <a:endParaRPr b="0" lang="en-US" sz="9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now</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ain</a:t>
            </a:r>
            <a:endParaRPr b="0" lang="en-US" sz="800" spc="-1" strike="noStrike">
              <a:solidFill>
                <a:srgbClr val="000000"/>
              </a:solidFill>
              <a:latin typeface="Arial"/>
            </a:endParaRPr>
          </a:p>
          <a:p>
            <a:pPr lvl="1" marL="743040" indent="-28584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ail</a:t>
            </a:r>
            <a:endParaRPr b="0" lang="en-US" sz="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forestation – avskoging (the cutting down or burning of vast areas of trees to clea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and)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evel - nivå</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a level – havnivå (rising sea level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ssil fuels – fossile brennstoffer (like gas, oil, and coa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rought – tør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urricanes – orkan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rnados – tornado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yphoon – tyf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crease – øke, økn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crease – minke, minsking, nedga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o trap, trapped – å fange, fange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PCC (The Inter-Governmental Panel on Climate Change) – FNs klimapane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at Is Global Warm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lobal warming is an increase in temperatures on earth – it is becoming warm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emperature on earth has increased gradually over the past 100 years, and more rapidly over the past 60-70 year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rrounding the earth is a layer of atmosphere or ga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osphere protects life on earth by both retaining and releasing solar radi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because human beings over the past 100 years have been burning more and more fossil fuels like gas, oil, and coal; the concentration of CO2 has increased and thickened the atmosphe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us, less radiation is released through the atmosphere and back into spa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a result, temperatures on earth incre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The Basic Science of Global Warming</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reenhouse Eff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ht waves from the sun (radiation) penetrate the atmosphere and heat up the ear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radiation is trapped inside the atmosphere - which is a good thing because it keeps the temperature of the earth relatively constant and liveable.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rapped by greenhouse gases like CO2 which are naturally a part of the atmospher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radiation is released back into space as infrared radiatio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burning of fossil fuels over the years has increased and as a result the CO2 level has increased and there is more CO2 in the atmosphere, and because of that the thin layer of atmosphere has become thicker</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more of the radiation is trapped, and it becomes warmer on earth. </a:t>
            </a:r>
            <a:endParaRPr b="0" lang="en-US" sz="1200" spc="-1" strike="noStrike">
              <a:solidFill>
                <a:srgbClr val="000000"/>
              </a:solidFill>
              <a:latin typeface="Arial"/>
            </a:endParaRPr>
          </a:p>
        </p:txBody>
      </p:sp>
      <p:pic>
        <p:nvPicPr>
          <p:cNvPr id="51" name="Picture 9" descr="gheffect"/>
          <p:cNvPicPr/>
          <p:nvPr/>
        </p:nvPicPr>
        <p:blipFill>
          <a:blip r:embed="rId1"/>
          <a:stretch/>
        </p:blipFill>
        <p:spPr>
          <a:xfrm>
            <a:off x="952560" y="271944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pic>
        <p:nvPicPr>
          <p:cNvPr id="53" name="Picture 6" descr="gheffec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ssil Fuels and CO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2 is a greenhouse gas that exists naturally in the atmosphere, i.e. we need it to surv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2 is in part created from burning fossil fuels like gas, oil and coa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ast century, we use more and more oil, gas and coal to produce things that we need in everyday life. We also use more oil, gas and coal than ever before in agriculture and in connection with transport and vehicles  and travel (cars, planes, train, ships, etc.)</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he past 100 years, the concentration of CO2 in the atmosphere and the emission of CO2 have increased drastically – especially the past 60-70 years (see graph belo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emission and concentration of Co2 has increased, so have the earth’s temperatur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ity of today’s climate change scientists agree that this increase is largely man-made and is the result of an increase in the use of gas, oil, and coal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6" name="Picture 6" descr="co"/>
          <p:cNvPicPr/>
          <p:nvPr/>
        </p:nvPicPr>
        <p:blipFill>
          <a:blip r:embed="rId1"/>
          <a:stretch/>
        </p:blipFill>
        <p:spPr>
          <a:xfrm>
            <a:off x="5005440" y="2138400"/>
            <a:ext cx="3324240" cy="344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creasing Levels of Temperatures and CO2</a:t>
            </a:r>
            <a:endParaRPr b="0" lang="en-US" sz="3200" spc="-1" strike="noStrike">
              <a:solidFill>
                <a:srgbClr val="000000"/>
              </a:solidFill>
              <a:latin typeface="Arial"/>
            </a:endParaRPr>
          </a:p>
        </p:txBody>
      </p:sp>
      <p:pic>
        <p:nvPicPr>
          <p:cNvPr id="58" name="Picture 10" descr="Bilde:CO2-Temp.png">
            <a:hlinkClick r:id="rId1"/>
          </p:cNvPr>
          <p:cNvPicPr/>
          <p:nvPr/>
        </p:nvPicPr>
        <p:blipFill>
          <a:blip r:embed="rId2"/>
          <a:stretch/>
        </p:blipFill>
        <p:spPr>
          <a:xfrm>
            <a:off x="762120" y="1819440"/>
            <a:ext cx="761976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Consequences of Global Warming</a:t>
            </a:r>
            <a:endParaRPr b="0" lang="en-US" sz="36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20:3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